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7B1-BA0F-49A8-953E-ACDB99CA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3C4-16DD-45EB-B9C2-6FBF4D35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AC8-A237-4879-A71A-C16A2D01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9D5-0CA6-4F22-BD2C-DA44AEE8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1D7-A644-43F1-A4CC-AFD51FE1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884-0005-48F5-84E0-580580B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4C0-63D2-4A02-A248-AC3A2F7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6E5-A56C-4C4B-ABE6-E7098EB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588-64B0-4E1B-9807-D434092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60C-D9FE-4D3B-8F00-A555892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485-EA96-431C-AF8D-C17A51F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F00-4570-4068-8D30-ECA9A38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2DD7-5341-420D-9512-617BB3B88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Artwork produced from program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used Photoshop and Paint as to edit / crop images for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also used Movie Maker to put the slides together for the Animation and Media player to vie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ton was used for the Artists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sts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at the Artists used would be: Computer Animation he was influenced by Jumper (movie) and the works of Terry Gilli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ests of this Artwork would be if you fall you can always get back o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– Art – Artist -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developed his ideas from stop animation – Terry Gilliam, Also used Artwork and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sonal philosophies influenced by experience of the world – if you have trouble it will turn out okay in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dia world has not influenced the artist because he got it from imagination – world of art – School, family, friend, youth culture – “Skateboarding, Surf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have influenced the Ar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s in the world have influenced the art practice – Technology, Computers, Cam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forms of Art from technology: Earth Art, Instillation, Film, Animation,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rticular Artworks is/are Peter Booth’s Painting in the 19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Artwork does challenge any mainstream Art by using stop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works should challenge the audience so it can give the people something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Galleries are not the only place to see artworks – Seen on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udience can interpret the Artwork how they think because, its what they enjo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does influence the audience on the Artwork, even though it should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3:29:46Z</dcterms:created>
  <dc:creator>profman</dc:creator>
  <dc:description/>
  <dc:language>en-US</dc:language>
  <cp:lastModifiedBy>profman</cp:lastModifiedBy>
  <dcterms:modified xsi:type="dcterms:W3CDTF">2009-10-21T04:15:43Z</dcterms:modified>
  <cp:revision>2</cp:revision>
  <dc:subject/>
  <dc:title>The Artwork</dc:title>
</cp:coreProperties>
</file>