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E79-86B6-44E6-8A99-421CA68A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6C0-5394-4E03-85F5-5233D21C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C13-0D17-4627-9A24-388421D8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F51-0E8E-47FE-8869-D20B6C96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CFD7-D379-4C32-A4F8-D3576DEB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6BF-20B6-4504-A30F-F58EA4D4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46D-90CB-4AB2-827A-663FA7C1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731-8E31-4BEF-AD7E-33D21B7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8C9-C675-41A6-BC11-0549E169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6F8-F421-4BCB-B89D-A09754E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59D-BCD0-4C81-B3CF-EC5F2A9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2A0-C0DC-4045-8BCC-D72739BB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C65C-232A-45F7-A5F0-1821CD8C9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44756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e Artwork produced from program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 P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ital Cam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used Photoshop and Paint as to edit / crop images for the ani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also used Movie Maker to put the slides together for the Animation and Media player to vie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leton was used for the Artists 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Artists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at the Artists used would be: Computer Animation he was influenced by Jumper (movie) and the works of Terry Gilli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nterests of this Artwork would be if you fall you can always get back o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– Art – Artist -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rtist developed his ideas from stop animation – Terry Gilliam, Also used Artwork and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and the Ar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sonal philosophies influenced by experience of the world – if you have trouble it will turn out okay in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edia world has not influenced the artist because he got it from imagination – world of art – School, family, friend, youth culture – “Skateboarding, Surf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World have influenced the Ar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s in the world have influenced the art practice – Technology, Computers, Cam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forms of Art from technology: Earth Art, Instillation, Film, Animation, Phot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rticular Artworks is/are Peter Booth’s Painting in the 19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Artwork does challenge any mainstream Art by using stop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nection between the Artwork and the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works should challenge the audience so it can give the people something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 Galleries are not the only place to see artworks – Seen on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udience can interpret the Artwork how they think because, its what they enjoy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does influence the audience on the Artwork, even though it should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03:29:46Z</dcterms:created>
  <dc:creator>profman</dc:creator>
  <dc:description/>
  <dc:language>en-US</dc:language>
  <cp:lastModifiedBy>profman</cp:lastModifiedBy>
  <dcterms:modified xsi:type="dcterms:W3CDTF">2009-10-21T04:15:43Z</dcterms:modified>
  <cp:revision>2</cp:revision>
  <dc:subject/>
  <dc:title>The Artwork</dc:title>
</cp:coreProperties>
</file>