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93C3-A212-464A-B381-0AEA2756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D47C-CC13-418A-94EE-BB02E279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47A6-7DDB-4CD3-A42F-CD2F3E53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D84-2BF9-4A71-8FB9-5AA010DB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72DE-8B05-4BEB-B195-F92261B2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5D2B-1B9D-4952-883B-A8B18E2B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DFF-FD42-425F-A200-B54CB457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83E9-4957-472C-8ECE-CD5D7BFA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D8B7-9FC6-4E6C-8C41-F875E9E2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16A-CA72-4DCE-9A08-D68C2724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406C-A194-466A-9C5A-99F67FC5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089-E2AF-45ED-B8A8-88C82373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538A-B9F8-4B52-9FA7-F530BD0C3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r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1447560"/>
            <a:ext cx="7391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The Artwork produced from program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 M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le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a P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gital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oft 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tist used Photoshop and Paint as to edit / crop images for the ani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tist also used Movie Maker to put the slides together for the Animation and Media player to view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leton was used for the Artists 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Artists Int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rmat the Artists used would be: Computer Animation he was influenced by Jumper (movie) and the works of Terry Gilli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nterests of this Artwork would be if you fall you can always get back o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ld – Art – Artist -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nection between the artwork and the Ar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tist developed his ideas from stop animation – Terry Gilliam, Also used Artwork and Phot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nection Between the world and the Ar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sonal philosophies influenced by experience of the world – if you have trouble it will turn out okay in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edia world has not influenced the artist because he got it from imagination – world of art – School, family, friend, youth culture – “Skateboarding, Surf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nection between the World have influenced the Ar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ts in the world have influenced the art practice – Technology, Computers, Came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w forms of Art from technology: Earth Art, Instillation, Film, Animation, Phot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particular Artworks is/are Peter Booth’s Painting in the 19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Artwork does challenge any mainstream Art by using stop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nection between the Artwork and the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works should challenge the audience so it can give the people something to f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 Galleries are not the only place to see artworks – Seen on compu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udience can interpret the Artwork how they think because, its what they enjoy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ice does influence the audience on the Artwork, even though it should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3:29:46Z</dcterms:created>
  <dc:creator>profman</dc:creator>
  <dc:description/>
  <dc:language>en-US</dc:language>
  <cp:lastModifiedBy>profman</cp:lastModifiedBy>
  <dcterms:modified xsi:type="dcterms:W3CDTF">2009-10-21T04:15:43Z</dcterms:modified>
  <cp:revision>2</cp:revision>
  <dc:subject/>
  <dc:title>The Artwork</dc:title>
</cp:coreProperties>
</file>