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D88-35DB-44F8-8BFB-DE37D22E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2AB-CAD1-4E7C-B7E6-8991CF71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743-C625-4A64-8686-E93A6A3A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552-F668-49AA-8FF3-2698EC9F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174-88B7-4655-A263-8318F73A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EBE-25B7-4C59-9497-F9A32A56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198-9344-45B9-8D99-9D8FD4CA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3A0-A5C3-4B66-9C71-360E3533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D4E-292A-459C-92AC-17F2270B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342-6E7A-459F-BE51-6E28B807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840-F1A2-4A15-B00F-CB91CDEF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C52-64D2-4B7C-B5F0-7EBBAA0A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23A4-BBB8-4D86-9BB9-E8CF56C39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391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Artwork produced from program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le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a P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ital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used Photoshop and Paint as to edit / crop images for the ani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also used Movie Maker to put the slides together for the Animation and Media player to vie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leton was used for the Artists 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rtists Int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at the Artists used would be: Computer Animation he was influenced by Jumper (movie) and the works of Terry Gilli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ests of this Artwork would be if you fall you can always get back o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– Art – Artist -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artwork and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developed his ideas from stop animation – Terry Gilliam, Also used Artwork and Phot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world and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sonal philosophies influenced by experience of the world – if you have trouble it will turn out okay in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edia world has not influenced the artist because he got it from imagination – world of art – School, family, friend, youth culture – “Skateboarding, Surf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World have influenced the Ar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s in the world have influenced the art practice – Technology, Computers, Cam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forms of Art from technology: Earth Art, Instillation, Film, Animation, Phot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particular Artworks is/are Peter Booth’s Painting in the 19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Artwork does challenge any mainstream Art by using stop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Artwork and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works should challenge the audience so it can give the people something to f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Galleries are not the only place to see artworks – Seen on compu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udience can interpret the Artwork how they think because, its what they enjoy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ice does influence the audience on the Artwork, even though it should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3:29:46Z</dcterms:created>
  <dc:creator>profman</dc:creator>
  <dc:description/>
  <dc:language>en-US</dc:language>
  <cp:lastModifiedBy>profman</cp:lastModifiedBy>
  <dcterms:modified xsi:type="dcterms:W3CDTF">2009-10-21T04:15:43Z</dcterms:modified>
  <cp:revision>2</cp:revision>
  <dc:subject/>
  <dc:title>The Artwork</dc:title>
</cp:coreProperties>
</file>