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4D5-76B7-4067-B8F5-FB8817D3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ABA-FEF8-4312-90E4-F5486381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2ED-D6A9-4DB8-A09F-B9B44A1F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466-B878-4203-8F74-BE64C09E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C9E-9A26-485E-A5E5-ACD6CFEB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C58-C00E-4624-B2B6-C82DC8CC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A8D-F333-402D-9B3B-F8AFAE1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05D-7181-448A-8EB2-2C371FB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75B-8593-4657-B6D5-41F099C3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DAF-9714-49D5-8E4C-D98540E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6CF-05A2-44BE-B8E3-D26AD059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B01-016D-45E2-936C-55DFAF5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1115-C801-4306-A076-54C4FC23C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Artwork produced from program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used Photoshop and Paint as to edit / crop images for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also used Movie Maker to put the slides together for the Animation and Media player to vie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ton was used for the Artists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sts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at the Artists used would be: Computer Animation he was influenced by Jumper (movie) and the works of Terry Gilli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ests of this Artwork would be if you fall you can always get back o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– Art – Artist -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developed his ideas from stop animation – Terry Gilliam, Also used Artwork and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sonal philosophies influenced by experience of the world – if you have trouble it will turn out okay in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dia world has not influenced the artist because he got it from imagination – world of art – School, family, friend, youth culture – “Skateboarding, Surf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have influenced the Ar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s in the world have influenced the art practice – Technology, Computers, Cam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forms of Art from technology: Earth Art, Instillation, Film, Animation,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rticular Artworks is/are Peter Booth’s Painting in the 19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Artwork does challenge any mainstream Art by using stop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works should challenge the audience so it can give the people something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Galleries are not the only place to see artworks – Seen on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udience can interpret the Artwork how they think because, its what they enjo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does influence the audience on the Artwork, even though it should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3:29:46Z</dcterms:created>
  <dc:creator>profman</dc:creator>
  <dc:description/>
  <dc:language>en-US</dc:language>
  <cp:lastModifiedBy>profman</cp:lastModifiedBy>
  <dcterms:modified xsi:type="dcterms:W3CDTF">2009-10-21T04:15:43Z</dcterms:modified>
  <cp:revision>2</cp:revision>
  <dc:subject/>
  <dc:title>The Artwork</dc:title>
</cp:coreProperties>
</file>