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7B57-75C5-4406-AEF7-93AE667CB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52A6-C29F-459A-A230-B353808F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6065-9CD4-46A8-90CF-02BC2C68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991E-DAD5-4E7D-85E4-C3EE1591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7D84-8335-4AB2-8806-75F744AA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EAD5-39F3-49B0-A957-8A43197F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4E4D-EF8F-4C43-A69C-E89047B3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032B-A969-43EE-986D-58702AC6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757B-84C2-4426-A346-BEB7AE4C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FF33-9517-4E12-8A9B-D9AA422A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2860-8A67-4AD5-83C7-103868E2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B032-4BE5-4164-A0EF-14DF4F6B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75CE-A241-4565-8E0F-4C1202951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Ar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1447560"/>
            <a:ext cx="7391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The Artwork produced from program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ie M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lel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dia P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gital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soft 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rtist used Photoshop and Paint as to edit / crop images for the ani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rtist also used Movie Maker to put the slides together for the Animation and Media player to view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leton was used for the Artists mu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Artists Int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rmat the Artists used would be: Computer Animation he was influenced by Jumper (movie) and the works of Terry Gilli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nterests of this Artwork would be if you fall you can always get back on your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ld – Art – Artist - Aud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nnection between the artwork and the Ar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rtist developed his ideas from stop animation – Terry Gilliam, Also used Artwork and Phot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nnection Between the world and the Ar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rsonal philosophies influenced by experience of the world – if you have trouble it will turn out okay in the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edia world has not influenced the artist because he got it from imagination – world of art – School, family, friend, youth culture – “Skateboarding, Surf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nnection between the World have influenced the Ar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nts in the world have influenced the art practice – Technology, Computers, Came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w forms of Art from technology: Earth Art, Instillation, Film, Animation, Phot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particular Artworks is/are Peter Booth’s Painting in the 190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Artwork does challenge any mainstream Art by using stop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nnection between the Artwork and the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works should challenge the audience so it can give the people something to f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 Galleries are not the only place to see artworks – Seen on compu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udience can interpret the Artwork how they think because, its what they enjoy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ice does influence the audience on the Artwork, even though it should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3:29:46Z</dcterms:created>
  <dc:creator>profman</dc:creator>
  <dc:description/>
  <dc:language>en-US</dc:language>
  <cp:lastModifiedBy>profman</cp:lastModifiedBy>
  <dcterms:modified xsi:type="dcterms:W3CDTF">2009-10-21T04:15:43Z</dcterms:modified>
  <cp:revision>2</cp:revision>
  <dc:subject/>
  <dc:title>The Artwork</dc:title>
</cp:coreProperties>
</file>