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42601-45B1-42C1-A4FA-789D66BB7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D663-892F-4FAC-8A94-D54F6CE45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5D9BB-65F4-4C1C-B7EA-42180C11C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E3395-0112-45A1-9EE3-7ADB6A2DD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1C81B-51CB-4D72-9923-8B33CB23F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8987E-B4AC-49BE-A29F-CF203EDFD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B99E7-0149-48F2-8C78-D631297AE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0CDD1-09C7-402D-AFD0-6323B9153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46689-A17B-4856-8A88-107A2AFC6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226F9-C2EB-4F83-9D06-6C1609CE0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7A819-7702-4748-9106-1F3758A2A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DAB40-15D6-471F-A421-D8569EAF9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7A16B-6BE2-4BE1-A452-D35B93E02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78586-41E4-4230-B460-2F5917200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4136F-747A-44BF-BB39-9E2FF65AA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8967B-103B-4E25-808E-EC395483A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90E8C-4A22-440F-8417-FF30F5473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7CBFF-1611-4BB1-A363-B70079875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59ABF-50BE-46B9-B1C3-3E6675D07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59729-8343-46C6-9F23-707692986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FF279-3114-47C6-B41C-3BB4615DB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CD473-8027-4BF7-85D9-48B1AD423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F4889-ECDF-42D1-AB9F-3A9C523F0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BA8EF-202C-4608-BFBA-6792E8D0C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89A15-BF42-4DD3-9D39-D56813920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06AB8-3B31-431B-A5A0-5A61362A9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Picture 5" descr="A:\minispir.GIF"/>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Picture 7" descr="A:\minispir.GIF"/>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Line 25"/>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Line 28"/>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D746-65B3-4530-BF6B-FA562F4C997D}"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Picture 3" descr="A:\minispir.GIF"/>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Picture 5" descr="A:\minispir.GIF"/>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313C-09A5-4791-A10D-1425DE1FDA00}"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s in the Ba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for Anthony Ierard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d Term2 to Term 3</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r..9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tis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294920" y="2133720"/>
            <a:ext cx="716292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tist of “What's in the bag?” is Anthony Ierardo. His interests is in chase movies. They are incorporated into the film because they are always full of action and appeal to all audiences. Car chases and fighting scenes demonstrate this as well in the stop animation he's creat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6854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udience</a:t>
            </a:r>
            <a:endParaRPr b="0" lang="en-US" sz="4400" spc="-1" strike="noStrike">
              <a:solidFill>
                <a:srgbClr val="221304"/>
              </a:solidFill>
              <a:latin typeface="Times New Roman"/>
            </a:endParaRPr>
          </a:p>
        </p:txBody>
      </p:sp>
      <p:sp>
        <p:nvSpPr>
          <p:cNvPr id="127" name="PlaceHolder 2"/>
          <p:cNvSpPr>
            <a:spLocks noGrp="1"/>
          </p:cNvSpPr>
          <p:nvPr>
            <p:ph type="subTitle"/>
          </p:nvPr>
        </p:nvSpPr>
        <p:spPr>
          <a:xfrm>
            <a:off x="1371600" y="2057400"/>
            <a:ext cx="731520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tist has appealed to the audience by using interesting angles of view to keep the audience “drawn in”. The different types of stop animation used are to show the audience the varieties of animation that can be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World / Cultural frame</a:t>
            </a:r>
            <a:endParaRPr b="0" lang="en-US" sz="4400" spc="-1" strike="noStrike">
              <a:solidFill>
                <a:srgbClr val="221304"/>
              </a:solidFill>
              <a:latin typeface="Times New Roman"/>
            </a:endParaRPr>
          </a:p>
        </p:txBody>
      </p:sp>
      <p:sp>
        <p:nvSpPr>
          <p:cNvPr id="129" name="PlaceHolder 2"/>
          <p:cNvSpPr>
            <a:spLocks noGrp="1"/>
          </p:cNvSpPr>
          <p:nvPr>
            <p:ph type="subTitle"/>
          </p:nvPr>
        </p:nvSpPr>
        <p:spPr>
          <a:xfrm>
            <a:off x="1447920" y="1904760"/>
            <a:ext cx="723888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ociety we live in these days, reflects on a lot of fighting caused by unfairness. The film shows how the average paid man is going out parachuting, while a poorer man has to steal to get by with his life . If the world was a fairer place where everyone was equal there wouldn’t be as many problems with e.g.people having to steal from each 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twork / Structural frame</a:t>
            </a:r>
            <a:endParaRPr b="0" lang="en-US" sz="4400" spc="-1" strike="noStrike">
              <a:solidFill>
                <a:srgbClr val="221304"/>
              </a:solidFill>
              <a:latin typeface="Times New Roman"/>
            </a:endParaRPr>
          </a:p>
        </p:txBody>
      </p:sp>
      <p:sp>
        <p:nvSpPr>
          <p:cNvPr id="131" name="PlaceHolder 2"/>
          <p:cNvSpPr>
            <a:spLocks noGrp="1"/>
          </p:cNvSpPr>
          <p:nvPr>
            <p:ph type="subTitle"/>
          </p:nvPr>
        </p:nvSpPr>
        <p:spPr>
          <a:xfrm>
            <a:off x="1371600" y="1599840"/>
            <a:ext cx="7315200" cy="4800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imation was made using a digital camera and tripod stand. The artist used clay and moved it little bit by bit to make the clay figure look like it was in motion. The second method he used was real life footage using paper cut out cars and dragging them along with fishing line. This was then followed by pivot, a program that lets you move a figure and save the image to make it look like its moving. The final method used was whiteboard using a digital camera and tripod to take pictures of one drawing, rubbing it out and drawing very close to the previous image drawn. The artist moved all this onto imovie on an emac and was able to edit and add sound effects to the movie.</a:t>
            </a: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bjective Frame</a:t>
            </a:r>
            <a:endParaRPr b="0" lang="en-US" sz="4400" spc="-1" strike="noStrike">
              <a:solidFill>
                <a:srgbClr val="221304"/>
              </a:solidFill>
              <a:latin typeface="Times New Roman"/>
            </a:endParaRPr>
          </a:p>
        </p:txBody>
      </p:sp>
      <p:sp>
        <p:nvSpPr>
          <p:cNvPr id="133" name="PlaceHolder 2"/>
          <p:cNvSpPr>
            <a:spLocks noGrp="1"/>
          </p:cNvSpPr>
          <p:nvPr>
            <p:ph type="subTitle"/>
          </p:nvPr>
        </p:nvSpPr>
        <p:spPr>
          <a:xfrm>
            <a:off x="1447920" y="1752120"/>
            <a:ext cx="7162560" cy="449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tist feels as if something were to be taken from you, you should set out to get it back, not exactly in violence but in other ways such as reasoning with the person. The sense of imagination used by the artist is showed by tricking the viewer into thinking the green bag stolen is full of money but you find out in the end its really a parachute in a bag, this goes on for the whole movi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stmodern frame</a:t>
            </a:r>
            <a:endParaRPr b="0" lang="en-US" sz="4400" spc="-1" strike="noStrike">
              <a:solidFill>
                <a:srgbClr val="221304"/>
              </a:solidFill>
              <a:latin typeface="Times New Roman"/>
            </a:endParaRPr>
          </a:p>
        </p:txBody>
      </p:sp>
      <p:sp>
        <p:nvSpPr>
          <p:cNvPr id="135" name="PlaceHolder 2"/>
          <p:cNvSpPr>
            <a:spLocks noGrp="1"/>
          </p:cNvSpPr>
          <p:nvPr>
            <p:ph type="subTitle"/>
          </p:nvPr>
        </p:nvSpPr>
        <p:spPr>
          <a:xfrm>
            <a:off x="1371600" y="1828800"/>
            <a:ext cx="73915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rtwork is outside the mainstream because it uses technology and a variety of animation techniques, including stop animation, pivot, whiteboard, clay along with real footage.  It also contains hum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rry Gilliam</a:t>
            </a:r>
            <a:endParaRPr b="0" lang="en-US" sz="4400" spc="-1" strike="noStrike">
              <a:solidFill>
                <a:srgbClr val="221304"/>
              </a:solidFill>
              <a:latin typeface="Times New Roman"/>
            </a:endParaRPr>
          </a:p>
        </p:txBody>
      </p:sp>
      <p:sp>
        <p:nvSpPr>
          <p:cNvPr id="137" name="PlaceHolder 2"/>
          <p:cNvSpPr>
            <a:spLocks noGrp="1"/>
          </p:cNvSpPr>
          <p:nvPr>
            <p:ph type="subTitle"/>
          </p:nvPr>
        </p:nvSpPr>
        <p:spPr>
          <a:xfrm>
            <a:off x="1218960" y="1599840"/>
            <a:ext cx="746748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ry Gilliams “Killer cars” and “Television is bad for your eyes” animations can be compared in the same style as “What's in the bag”. The car chase scene and humorous violence can be seen in both films as both artists have used the same metho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lliam Kentridge</a:t>
            </a:r>
            <a:endParaRPr b="0" lang="en-US" sz="4400" spc="-1" strike="noStrike">
              <a:solidFill>
                <a:srgbClr val="221304"/>
              </a:solidFill>
              <a:latin typeface="Times New Roman"/>
            </a:endParaRPr>
          </a:p>
        </p:txBody>
      </p:sp>
      <p:sp>
        <p:nvSpPr>
          <p:cNvPr id="139" name="PlaceHolder 2"/>
          <p:cNvSpPr>
            <a:spLocks noGrp="1"/>
          </p:cNvSpPr>
          <p:nvPr>
            <p:ph type="subTitle"/>
          </p:nvPr>
        </p:nvSpPr>
        <p:spPr>
          <a:xfrm>
            <a:off x="1295280" y="1676160"/>
            <a:ext cx="73915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iam Kentridge uses pastels and charcoal in both his “Felix in Exile” and “Automatic writing” films, and erases and redraws parts to create stop animation moving parts, just like how Anthony has worked with his whiteboard section of his movie “What’s in the ba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0:41:20Z</dcterms:created>
  <dc:creator>Tony Ierardo</dc:creator>
  <dc:description/>
  <dc:language>en-US</dc:language>
  <cp:lastModifiedBy>nmartin</cp:lastModifiedBy>
  <dcterms:modified xsi:type="dcterms:W3CDTF">2009-09-30T03:12:42Z</dcterms:modified>
  <cp:revision>6</cp:revision>
  <dc:subject/>
  <dc:title>What's in the Bag?</dc:title>
</cp:coreProperties>
</file>