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B7C-0206-49A0-8E3E-52008B27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4B4-3C29-460B-B5DD-FDB9D76B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7EE-DD46-4561-B2AA-4EA2053F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538-DC34-4808-9C2B-20AFDFBB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C9E-3B6F-4E75-A06F-185BDF8A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3FB-85A4-4036-B5B4-415312FA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ADD-EEE6-4580-A2D8-AB25BA78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478-228E-496D-A3CB-EB6A57A1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DC2-60A6-4087-8265-D4910844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C52-3AF0-4FD2-A62C-EDDEBCF7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B74-82E9-4D04-8D2A-7BD7FCFF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B97-4B28-460D-A63C-D0A9C01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0B3D-F4A4-457B-AECC-5F0D658A6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04640"/>
            <a:ext cx="81378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HOTOGRAPHIC AND DIGITAL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MATION TA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27280" y="4724280"/>
            <a:ext cx="3905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JOSEPH KHOSHAB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0"/>
            <a:ext cx="7561080" cy="501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 JOSEPH KHOSHAB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done this movie (Borat chased by the cops) because he thought it will be funny seeing Borat chased by the c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used stop animation instead of clay because it will be easy to do stop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333360"/>
            <a:ext cx="770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Artist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udience can be when you put it on 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15920"/>
            <a:ext cx="7991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Audie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orld can be when wiki space because everyone in the world can see your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40464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Worl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used to do the movie was camera, stop animation, computer, whiteboard animation and Photos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333360"/>
            <a:ext cx="792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truction Fr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feelings were when he made the movie happy and f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I watch the movie I was laughing because it was fu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333360"/>
            <a:ext cx="784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bjective Fram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movie is about borat chased by the cops it’s a 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borat gets chased by the cops it be comes stop animation the whiteboard then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89000"/>
            <a:ext cx="777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Cultural Fr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ay the artist done my animation is I’ve put doors as the background so borat can run in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the way the artist wrote his name by record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15920"/>
            <a:ext cx="806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tmodern Fram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the movie borat chased by the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orat hits some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the terry Gilliam movie killer cars the car hits a person like borat chased by the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11640" y="1484280"/>
          <a:ext cx="209700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20970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 rot="20658600">
            <a:off x="931680" y="264960"/>
            <a:ext cx="777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are the artist aniamtion to the animations terry gill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140360" y="2852640"/>
          <a:ext cx="2016000" cy="11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852640"/>
                    <a:ext cx="20160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01:07:45Z</dcterms:created>
  <dc:creator>*****</dc:creator>
  <dc:description/>
  <dc:language>en-US</dc:language>
  <cp:lastModifiedBy>*****</cp:lastModifiedBy>
  <dcterms:modified xsi:type="dcterms:W3CDTF">2009-09-29T09:21:01Z</dcterms:modified>
  <cp:revision>4</cp:revision>
  <dc:subject/>
  <dc:title>Slide 1</dc:title>
</cp:coreProperties>
</file>