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2DB-D377-4EC7-816E-DE4C7CEB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803-78D0-446E-8FF8-5E47A1F1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4B0E-2FB7-47C8-881E-53DB0044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E3D-DC7D-4D64-9C52-EBA83AF0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DDC-34BF-45EB-A690-CC3F82E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1584-5A02-48FD-820B-A8F6C63A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809-92E7-41BB-A768-54B8AE30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F595-F64B-4DCB-94F8-CC24C923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278-71DF-454E-B5CD-298EC828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511-DF1D-4A51-B96D-5587484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A30-A80D-4C89-8F3A-BC5923A0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944-F781-4CFE-B078-02FC2066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544-29BA-4A3F-AA49-9744783E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404640"/>
            <a:ext cx="8137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HOTOGRAPHIC AND DIGITAL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NIMATION TAS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4724280"/>
            <a:ext cx="390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JOSEPH KHOSHAB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0"/>
            <a:ext cx="7561080" cy="501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END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OSEPH KHOSHAB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done this movie (Borat chased by the cops) because he thought it will be funny seeing Borat chased by the c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stop animation instead of clay because it will be easy to do stop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333360"/>
            <a:ext cx="770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he Artis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udience can be when you put it on You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15920"/>
            <a:ext cx="79912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Audienc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orld can be when wiki space because everyone in the world can see your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404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Wor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used to do the movie was camera, stop animation, computer, whiteboard animation and Photo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4360" y="333360"/>
            <a:ext cx="79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truction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rtist feelings were when he made the movie happy and fu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I watch the movie I was laughing because it was fu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333360"/>
            <a:ext cx="784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bjective Fram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movie is about borat chased by the cops it’s a come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n borat gets chased by the cops it be comes stop animation the whiteboard then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9640" y="189000"/>
            <a:ext cx="7777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Black"/>
              </a:rPr>
              <a:t>Cultural Fra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the artist done my animation is I’ve put doors as the background so borat can run in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the way the artist wrote his name by recor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1592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stmodern Fram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movi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orat hits some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the terry Gilliam movie killer cars the car hits a person like borat chased by the c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211640" y="1484280"/>
          <a:ext cx="209700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84280"/>
                    <a:ext cx="209700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 txBox="1"/>
          <p:nvPr/>
        </p:nvSpPr>
        <p:spPr>
          <a:xfrm rot="20658600">
            <a:off x="931680" y="264960"/>
            <a:ext cx="777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are the artist aniamtion to the animations terry gill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140360" y="2852640"/>
          <a:ext cx="2016000" cy="113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2852640"/>
                    <a:ext cx="20160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01:07:45Z</dcterms:created>
  <dc:creator>*****</dc:creator>
  <dc:description/>
  <dc:language>en-US</dc:language>
  <cp:lastModifiedBy>*****</cp:lastModifiedBy>
  <dcterms:modified xsi:type="dcterms:W3CDTF">2009-09-29T09:21:01Z</dcterms:modified>
  <cp:revision>4</cp:revision>
  <dc:subject/>
  <dc:title>Slide 1</dc:title>
</cp:coreProperties>
</file>