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FE8-9A70-42F6-BBB6-20453D80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8473-2821-42A3-95B0-E5DF12A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86A-4B2C-4C00-9084-BB188CA8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6FE-16DC-4780-8D99-F332FEC1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D68-EC24-4C01-AE2B-362F91D3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A29-7866-41ED-B4BA-8768D08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CE1-81B1-4607-A2F5-C6A87C37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44F-89B7-4A90-A6F5-9B0D8B93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B278-72D1-48FF-B5E0-66395CBE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C02-CD80-452D-A5D1-CA80B032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99C-8087-4098-B308-C6FF6037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7C1-3549-4B13-AFD6-BBC62C13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7513-B1A0-4D53-899D-05C6B11AA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8137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HOTOGRAPHIC AND DIGITAL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MATION TA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27280" y="4724280"/>
            <a:ext cx="3905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JOSEPH KHOSHAB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0"/>
            <a:ext cx="7561080" cy="501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 JOSEPH KHOSHAB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done this movie (Borat chased by the cops) because he thought it will be funny seeing Borat chased by the c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stop animation instead of clay because it will be easy to do stop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333360"/>
            <a:ext cx="770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Artis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udience can be when you put it on 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15920"/>
            <a:ext cx="7991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Audie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orld can be when wiki space because everyone in the world can see your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40464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Worl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to do the movie was camera, stop animation, computer, whiteboard animation and Photo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333360"/>
            <a:ext cx="79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truction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feelings were when he made the movie happy and f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I watch the movie I was laughing because it was f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bjective Fram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vie is about borat chased by the cops it’s a 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borat gets chased by the cops it be comes stop animation the whiteboard then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89000"/>
            <a:ext cx="777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Cultural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ay the artist done my animation is I’ve put doors as the background so borat can run in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the way the artist wrote his name by record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15920"/>
            <a:ext cx="80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tmodern Fram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movi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rat hits some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terry Gilliam movie killer cars the car hits a person lik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11640" y="1484280"/>
          <a:ext cx="20970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20970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 rot="20658600">
            <a:off x="931680" y="264960"/>
            <a:ext cx="777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are the artist aniamtion to the animations terry gill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140360" y="2852640"/>
          <a:ext cx="2016000" cy="11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852640"/>
                    <a:ext cx="20160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01:07:45Z</dcterms:created>
  <dc:creator>*****</dc:creator>
  <dc:description/>
  <dc:language>en-US</dc:language>
  <cp:lastModifiedBy>*****</cp:lastModifiedBy>
  <dcterms:modified xsi:type="dcterms:W3CDTF">2009-09-29T09:21:01Z</dcterms:modified>
  <cp:revision>4</cp:revision>
  <dc:subject/>
  <dc:title>Slide 1</dc:title>
</cp:coreProperties>
</file>