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165-4657-40C6-941E-E339E7D4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A79-C643-43F2-A3C2-BB506671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58D-5D4E-4726-8E56-60FDE753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4CB-80D9-4EF0-B6FF-96B3E3AE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65B-DC15-45DB-96D9-49A24F9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FFE-46EF-4F33-81C1-F68BC2AF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FC9-E3C9-49F3-AD49-261333DE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149-070B-4598-A14F-4D2C05E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25C-54F9-409D-83E9-27FCA36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D37-0C97-4B5D-8ED5-FC5CB5A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228-275B-4E73-A95A-D8342DF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E26-9A52-4E86-ACE8-00AC302E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BB9-E797-4A34-8D68-05FDBE09C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813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IC AND DIGITAL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MATION 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4724280"/>
            <a:ext cx="390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JOSEPH KHOSHAB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0"/>
            <a:ext cx="7561080" cy="50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OSEPH KHOSHAB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done this movie (Borat chased by the cops) because he thought it will be funny seeing Borat chased by the c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stop animation instead of clay because it will be easy to do stop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33360"/>
            <a:ext cx="770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Artis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udience can be when you put it on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5920"/>
            <a:ext cx="79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Audie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orld can be when wiki space because everyone in the world can see you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404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Wor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to do the movie was camera, stop animation, computer, whiteboard animation and Photo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333360"/>
            <a:ext cx="79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ruction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feelings were when he made the movie happy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I watch the movie I was laughing because it was f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bjective Fra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vie is about borat chased by the cops it’s a 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borat gets chased by the cops it be comes stop animation the whiteboard then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8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Cultural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the artist done my animation is I’ve put doors as the background so borat can run in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the way the artist wrote his name by recor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1592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tmodern Fram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movi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rat hits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terry Gilliam movie killer cars the car hits a person lik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11640" y="1484280"/>
          <a:ext cx="20970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97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 rot="20658600">
            <a:off x="931680" y="264960"/>
            <a:ext cx="77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are the artist aniamtion to the animations terry gill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40360" y="2852640"/>
          <a:ext cx="20160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52640"/>
                    <a:ext cx="20160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1:07:45Z</dcterms:created>
  <dc:creator>*****</dc:creator>
  <dc:description/>
  <dc:language>en-US</dc:language>
  <cp:lastModifiedBy>*****</cp:lastModifiedBy>
  <dcterms:modified xsi:type="dcterms:W3CDTF">2009-09-29T09:21:01Z</dcterms:modified>
  <cp:revision>4</cp:revision>
  <dc:subject/>
  <dc:title>Slide 1</dc:title>
</cp:coreProperties>
</file>