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489-1293-4335-95B0-1B71FF3C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790-F97F-4956-A63A-E4D1F240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392-74FC-459F-903D-2D4E1C0E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4C5-76CD-435D-AC72-F005A386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47F-D418-4D3D-9444-F3B58CF3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BA4-ACC6-46FD-8C28-744F5C83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670-16FB-4412-A4AA-5AD63FA5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ABC-FB13-4E70-8598-5F105C71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55B-F1B0-4250-A972-7E57637B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81B4-DAD5-41F9-95C2-C3BBC27C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6E1-7BC6-4D04-BCDB-3E9EC4F1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B3E7-92C1-4019-99C6-44290ED9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A016-B3C6-4FD4-82F3-4E71B3ADE9E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Bradley Hand ITC"/>
              </a:rPr>
              <a:t>Pictures Or Porta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outcome because of advance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modern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 mixture of clay, pivot, real footage and Photoshop as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modern technology of computers and cam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 has ir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surrealism by entering different realms of ex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s or Portals?” is an animation about a man who walks into a computer then finds a house into which he enters, then get sucked into a picture, which he finds his way out of, and is chased by a snowman, who doesn’t want him to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u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e 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vot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also used the following sounds/musi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for p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0880" y="533160"/>
            <a:ext cx="8229600" cy="5668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9 PDM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ed in Fps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d by Joel Humph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d by Adam Elliot’s use of Clay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P1030728.JPG"/>
          <p:cNvPicPr/>
          <p:nvPr/>
        </p:nvPicPr>
        <p:blipFill>
          <a:blip r:embed="rId1"/>
          <a:stretch/>
        </p:blipFill>
        <p:spPr>
          <a:xfrm>
            <a:off x="762120" y="4419720"/>
            <a:ext cx="2523960" cy="1676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max-and-mary4.jpg"/>
          <p:cNvPicPr/>
          <p:nvPr/>
        </p:nvPicPr>
        <p:blipFill>
          <a:blip r:embed="rId2"/>
          <a:stretch/>
        </p:blipFill>
        <p:spPr>
          <a:xfrm>
            <a:off x="4648320" y="4648320"/>
            <a:ext cx="2795400" cy="1406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 of artwork was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twork was made using clay, Photoshop and pivot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used to make the artwork w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 Photogra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used to edit photos with photoshop and make animation with movie m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1030724     2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1265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18     2"/>
          <p:cNvPicPr/>
          <p:nvPr/>
        </p:nvPicPr>
        <p:blipFill>
          <a:blip r:embed="rId2"/>
          <a:stretch/>
        </p:blipFill>
        <p:spPr>
          <a:xfrm>
            <a:off x="3581280" y="3200400"/>
            <a:ext cx="1905120" cy="1265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pivot 4 asses"/>
          <p:cNvPicPr/>
          <p:nvPr/>
        </p:nvPicPr>
        <p:blipFill>
          <a:blip r:embed="rId3"/>
          <a:stretch/>
        </p:blipFill>
        <p:spPr>
          <a:xfrm>
            <a:off x="7086600" y="2666880"/>
            <a:ext cx="1523880" cy="124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ive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ed at young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3:47:30Z</dcterms:created>
  <dc:creator>profman</dc:creator>
  <dc:description/>
  <dc:language>en-US</dc:language>
  <cp:lastModifiedBy>dsayers</cp:lastModifiedBy>
  <dcterms:modified xsi:type="dcterms:W3CDTF">2009-10-20T02:28:55Z</dcterms:modified>
  <cp:revision>22</cp:revision>
  <dc:subject/>
  <dc:title>Pictures Or Portals</dc:title>
</cp:coreProperties>
</file>