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D34-806C-4F34-BA2C-1CB35C2A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6EC-13EA-4DC3-AF10-DE2652F3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C00-5FFB-4DDB-89D8-5C1B01C7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B82-A003-4359-A058-18FCCE54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9F8-815F-488B-B36F-6035F9E6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319-B84E-4F20-8C22-740796A1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B3B-1DA6-42C5-AD08-686F9A8D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33C-848B-4F3F-AC16-9826875F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9FD-0714-432B-8ABB-4E60F186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5C0-E52C-4664-A34F-934A19A2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DD4-9678-45CF-80C4-C685C21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8882-AACF-4CA9-8763-CED0F9D9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F73A-B2F8-42D8-9A13-B7AC6DB9365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Bradley Hand ITC"/>
              </a:rPr>
              <a:t>Pictures Or Portal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outcome because of advance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modern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mixture of clay, pivot, real footage and Photoshop as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modern technology of computers and cam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has iron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urrealism by entering different realms of 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s or Portals?” is an animation about a man who walks into a computer then finds a house into which he enters, then get sucked into a picture, which he finds his way out of, and is chased by a snowman, who doesn’t want him to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u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e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vot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tist also used the following sounds/musi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for p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0880" y="533160"/>
            <a:ext cx="8229600" cy="5668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 9 PDM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ed in Fps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d by Joel Humph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d by Adam Elliot’s use of Clay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P1030728.JPG"/>
          <p:cNvPicPr/>
          <p:nvPr/>
        </p:nvPicPr>
        <p:blipFill>
          <a:blip r:embed="rId1"/>
          <a:stretch/>
        </p:blipFill>
        <p:spPr>
          <a:xfrm>
            <a:off x="762120" y="4419720"/>
            <a:ext cx="2523960" cy="1676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max-and-mary4.jpg"/>
          <p:cNvPicPr/>
          <p:nvPr/>
        </p:nvPicPr>
        <p:blipFill>
          <a:blip r:embed="rId2"/>
          <a:stretch/>
        </p:blipFill>
        <p:spPr>
          <a:xfrm>
            <a:off x="4648320" y="4648320"/>
            <a:ext cx="2795400" cy="1406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 of artwork was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work was made using clay, Photoshop and pivot 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used to make the artwork w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Photograp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used to edit photos with photoshop and make animation with movie m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1030724     2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265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18     2"/>
          <p:cNvPicPr/>
          <p:nvPr/>
        </p:nvPicPr>
        <p:blipFill>
          <a:blip r:embed="rId2"/>
          <a:stretch/>
        </p:blipFill>
        <p:spPr>
          <a:xfrm>
            <a:off x="3581280" y="3200400"/>
            <a:ext cx="1905120" cy="1265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pivot 4 asses"/>
          <p:cNvPicPr/>
          <p:nvPr/>
        </p:nvPicPr>
        <p:blipFill>
          <a:blip r:embed="rId3"/>
          <a:stretch/>
        </p:blipFill>
        <p:spPr>
          <a:xfrm>
            <a:off x="7086600" y="2666880"/>
            <a:ext cx="1523880" cy="124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iv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ed at young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3:47:30Z</dcterms:created>
  <dc:creator>profman</dc:creator>
  <dc:description/>
  <dc:language>en-US</dc:language>
  <cp:lastModifiedBy>dsayers</cp:lastModifiedBy>
  <dcterms:modified xsi:type="dcterms:W3CDTF">2009-10-20T02:28:55Z</dcterms:modified>
  <cp:revision>22</cp:revision>
  <dc:subject/>
  <dc:title>Pictures Or Portals</dc:title>
</cp:coreProperties>
</file>