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A36-EE29-4C93-A7D3-83CF9394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310-BE2C-422B-9783-AE1489EF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C1B-7924-42AD-9E94-66E3C9AC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CE9-F4B6-42F2-A61D-13F3EAD8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3C0-97EC-42DA-855A-6B9CF7E2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E7E-9E4C-4D60-8FEA-F3BF162C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740-3BBC-4999-8A9B-793FDAB0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30D-056D-4316-A66D-97CF18F5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7AC-D3A0-4120-AB41-F1DE5459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E12-1244-44CC-9458-60DC77A5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43F-C6A3-4C30-A1C6-87251A51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022-5E94-4251-BC2B-7E606218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2B47-895F-4AA9-84C5-AF3B514C5E2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Bradley Hand ITC"/>
              </a:rPr>
              <a:t>Pictures Or Porta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outcome because of advance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modern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mixture of clay, pivot, real footage and Photoshop as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modern technology of computers and cam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has ir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urrealism by entering different realms of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 or Portals?” is an animation about a man who walks into a computer then finds a house into which he enters, then get sucked into a picture, which he finds his way out of, and is chased by a snowman, who doesn’t want him to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u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e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vot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also used the following sounds/musi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for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0880" y="533160"/>
            <a:ext cx="8229600" cy="5668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9 PDM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ed in Fps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Joel Humph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Adam Elliot’s use of Clay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P1030728.JPG"/>
          <p:cNvPicPr/>
          <p:nvPr/>
        </p:nvPicPr>
        <p:blipFill>
          <a:blip r:embed="rId1"/>
          <a:stretch/>
        </p:blipFill>
        <p:spPr>
          <a:xfrm>
            <a:off x="762120" y="4419720"/>
            <a:ext cx="2523960" cy="1676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max-and-mary4.jpg"/>
          <p:cNvPicPr/>
          <p:nvPr/>
        </p:nvPicPr>
        <p:blipFill>
          <a:blip r:embed="rId2"/>
          <a:stretch/>
        </p:blipFill>
        <p:spPr>
          <a:xfrm>
            <a:off x="4648320" y="4648320"/>
            <a:ext cx="2795400" cy="1406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 of artwork was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work was made using clay, Photoshop and pivot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used to make the artwork 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Photogra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used to edit photos with photoshop and make animation with movie m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1030724     2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26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18     2"/>
          <p:cNvPicPr/>
          <p:nvPr/>
        </p:nvPicPr>
        <p:blipFill>
          <a:blip r:embed="rId2"/>
          <a:stretch/>
        </p:blipFill>
        <p:spPr>
          <a:xfrm>
            <a:off x="3581280" y="3200400"/>
            <a:ext cx="1905120" cy="1265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pivot 4 asses"/>
          <p:cNvPicPr/>
          <p:nvPr/>
        </p:nvPicPr>
        <p:blipFill>
          <a:blip r:embed="rId3"/>
          <a:stretch/>
        </p:blipFill>
        <p:spPr>
          <a:xfrm>
            <a:off x="7086600" y="2666880"/>
            <a:ext cx="1523880" cy="124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iv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ed at young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3:47:30Z</dcterms:created>
  <dc:creator>profman</dc:creator>
  <dc:description/>
  <dc:language>en-US</dc:language>
  <cp:lastModifiedBy>dsayers</cp:lastModifiedBy>
  <dcterms:modified xsi:type="dcterms:W3CDTF">2009-10-20T02:28:55Z</dcterms:modified>
  <cp:revision>22</cp:revision>
  <dc:subject/>
  <dc:title>Pictures Or Portals</dc:title>
</cp:coreProperties>
</file>