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013-E9AF-43D2-B24D-10EFF34E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CDB9-4E22-41FE-8E70-29E84749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E18-F1A7-4568-B54A-A79572A9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AD6-8FB5-4104-98E9-35BA19EC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12F-5246-4F51-837B-2C18E991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60F-4B4A-4416-9AA1-20055D18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0B8-2BB5-4D74-B985-EDD77526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E81-34C7-4C55-89DD-12656ED4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C9C-E64C-4E99-8A22-C9E4D34D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F6A-91C8-4702-81C0-8263D2C9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721-B682-4A05-B6E8-E7971B97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059-5D6B-44A7-AF23-175F9527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3FD4-D302-44C5-9DE1-B27C2538F4BB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Bradley Hand ITC"/>
              </a:rPr>
              <a:t>Pictures Or Porta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outcome because of advance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modern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mixture of clay, pivot, real footage and Photoshop as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modern technology of computers and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has ir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urrealism by entering different realms of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 or Portals?” is an animation about a man who walks into a computer then finds a house into which he enters, then get sucked into a picture, which he finds his way out of, and is chased by a snowman, who doesn’t want him to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u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e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vot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also used the following sounds/musi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for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880" y="533160"/>
            <a:ext cx="8229600" cy="5668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9 PDM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 in Fp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Joel Humph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Adam Elliot’s use of Clay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P1030728.JPG"/>
          <p:cNvPicPr/>
          <p:nvPr/>
        </p:nvPicPr>
        <p:blipFill>
          <a:blip r:embed="rId1"/>
          <a:stretch/>
        </p:blipFill>
        <p:spPr>
          <a:xfrm>
            <a:off x="762120" y="4419720"/>
            <a:ext cx="252396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max-and-mary4.jpg"/>
          <p:cNvPicPr/>
          <p:nvPr/>
        </p:nvPicPr>
        <p:blipFill>
          <a:blip r:embed="rId2"/>
          <a:stretch/>
        </p:blipFill>
        <p:spPr>
          <a:xfrm>
            <a:off x="4648320" y="4648320"/>
            <a:ext cx="2795400" cy="1406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 of artwork was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work was made using clay, Photoshop and pivot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used to make the artwork 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Photogra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used to edit photos with photoshop and make animation with movie m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1030724     2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26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8     2"/>
          <p:cNvPicPr/>
          <p:nvPr/>
        </p:nvPicPr>
        <p:blipFill>
          <a:blip r:embed="rId2"/>
          <a:stretch/>
        </p:blipFill>
        <p:spPr>
          <a:xfrm>
            <a:off x="3581280" y="3200400"/>
            <a:ext cx="1905120" cy="126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ivot 4 asses"/>
          <p:cNvPicPr/>
          <p:nvPr/>
        </p:nvPicPr>
        <p:blipFill>
          <a:blip r:embed="rId3"/>
          <a:stretch/>
        </p:blipFill>
        <p:spPr>
          <a:xfrm>
            <a:off x="7086600" y="2666880"/>
            <a:ext cx="1523880" cy="124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ed at young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3:47:30Z</dcterms:created>
  <dc:creator>profman</dc:creator>
  <dc:description/>
  <dc:language>en-US</dc:language>
  <cp:lastModifiedBy>dsayers</cp:lastModifiedBy>
  <dcterms:modified xsi:type="dcterms:W3CDTF">2009-10-20T02:28:55Z</dcterms:modified>
  <cp:revision>22</cp:revision>
  <dc:subject/>
  <dc:title>Pictures Or Portals</dc:title>
</cp:coreProperties>
</file>