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B8F-61E7-468C-BFAF-2052AE80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9C0-B583-4B4B-B000-31F85698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2DC-CE67-4CBE-8C53-4A29A33C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434-7C57-4043-89A1-7BCCED76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FF6-EDCC-42C2-A1E8-1A9FB1A5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59A-385C-4E53-91BC-AF6E81D6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B5B-05C8-4729-B899-CAEB59E7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CC0-2354-4CCE-BA0F-DC17E548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119-E1FA-4D9A-9CFD-084B4C93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AAE-60D9-4578-9197-AEA877F2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28F-BEB0-4EA0-9D1C-6789B1C9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AA3-8AB1-4227-8AA6-DFEFE1B7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AEFF-F5A5-4445-B4EA-84C3EAD4F92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Bradley Hand ITC"/>
              </a:rPr>
              <a:t>Pictures Or Port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utcome because of advance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mixture of clay, pivot, real footage and Photoshop as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odern technology of computers and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has ir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urrealism by entering different realms of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or Portals?” is an animation about a man who walks into a computer then finds a house into which he enters, then get sucked into a picture, which he finds his way out of, and is chased by a snowman, who doesn’t want him to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also used the following sounds/musi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or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533160"/>
            <a:ext cx="8229600" cy="5668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9 PDM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Fp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Joel Humph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Adam Elliot’s use of Clay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1030728.JPG"/>
          <p:cNvPicPr/>
          <p:nvPr/>
        </p:nvPicPr>
        <p:blipFill>
          <a:blip r:embed="rId1"/>
          <a:stretch/>
        </p:blipFill>
        <p:spPr>
          <a:xfrm>
            <a:off x="762120" y="4419720"/>
            <a:ext cx="252396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max-and-mary4.jpg"/>
          <p:cNvPicPr/>
          <p:nvPr/>
        </p:nvPicPr>
        <p:blipFill>
          <a:blip r:embed="rId2"/>
          <a:stretch/>
        </p:blipFill>
        <p:spPr>
          <a:xfrm>
            <a:off x="4648320" y="4648320"/>
            <a:ext cx="2795400" cy="140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 of artwork was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work was made using clay, Photoshop and pivot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used to make the artwork 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Phot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used to edit photos with photoshop and make animation with movie m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1030724     2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26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8     2"/>
          <p:cNvPicPr/>
          <p:nvPr/>
        </p:nvPicPr>
        <p:blipFill>
          <a:blip r:embed="rId2"/>
          <a:stretch/>
        </p:blipFill>
        <p:spPr>
          <a:xfrm>
            <a:off x="3581280" y="32004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ivot 4 asses"/>
          <p:cNvPicPr/>
          <p:nvPr/>
        </p:nvPicPr>
        <p:blipFill>
          <a:blip r:embed="rId3"/>
          <a:stretch/>
        </p:blipFill>
        <p:spPr>
          <a:xfrm>
            <a:off x="7086600" y="2666880"/>
            <a:ext cx="1523880" cy="124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ed at young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47:30Z</dcterms:created>
  <dc:creator>profman</dc:creator>
  <dc:description/>
  <dc:language>en-US</dc:language>
  <cp:lastModifiedBy>dsayers</cp:lastModifiedBy>
  <dcterms:modified xsi:type="dcterms:W3CDTF">2009-10-20T02:28:55Z</dcterms:modified>
  <cp:revision>22</cp:revision>
  <dc:subject/>
  <dc:title>Pictures Or Portals</dc:title>
</cp:coreProperties>
</file>