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15074-A53C-4C92-A4FC-0A71F64A9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EE7D1-9D8E-41C3-AF04-7C4E3139D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4DC1C-10E7-4E61-8F2E-39B7FB64F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9BE15-6009-4832-8AE2-F18B44C21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267D4-30B5-4DD9-AA33-AEB851F1C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D243-CD46-46C9-A711-0C2560AD4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CECD4-0603-4E96-A92F-211913945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DD2D3-9DA9-42D5-B70A-DA4C90EDD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93E37-9E4A-468A-9646-D695F89E1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F701-A22E-4F7E-866E-116066C6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3D5B-D9FA-4051-99EA-30FCA6DC2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CD7F1-D108-439F-8D76-4C6A9BF5A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48E5-33FB-4300-A82C-5E1F90752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8TpH79Q7dh4"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476360" y="1413000"/>
            <a:ext cx="5761080" cy="23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DM ASSESSMENT</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FR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ntended to have a not to serious chase animation, as mos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FRA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a theme of chases which relates to people who are interested in cars and racing. Many teenagers are interested in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FR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ist uses the computer for his stop animation. Each picture was taken using a normal camera. Then uploaded to a computer &amp; to windows movie maker. The artist shortened the picture times and made titles and credits. He also added in some live footage. And finally, added some music that sounds like chase music ‘Live and let die’ by Guns and R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challenges mainstream because it uses two different types of media in the same film, real footage and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I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made an animation called the c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work is stop motion which was made on windows movie ma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DIE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have grown up in a world of technology that is always cha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n is less important to people than it was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being treated a lot mo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of technology over the past few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amp; THE AR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been influenced by car chases and movies about c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n’t a very religious person but is a Chris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UDIEN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teaches people that you can achieve quality animation with simple programs and so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UDIENCE &amp; THE WORLD</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influences us through media such as posters, movies, music 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hange the world by influenc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LD &amp; THE ARTWORK</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y Python’s ‘killer cars’ influenced the artist by combining stop animation with real fig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8TpH79Q7dh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 also influenced by Adam Elliot’s stop anim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RTWORK</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used racing as his theme because it has always interested him. And he wanted to see if he could recreate some of the action filled car chase sequences he has witnessed over th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6:13:11Z</dcterms:created>
  <dc:creator>Craig Rowland</dc:creator>
  <dc:description/>
  <dc:language>en-US</dc:language>
  <cp:lastModifiedBy>Craig Rowland</cp:lastModifiedBy>
  <dcterms:modified xsi:type="dcterms:W3CDTF">2009-09-30T08:40:18Z</dcterms:modified>
  <cp:revision>8</cp:revision>
  <dc:subject/>
  <dc:title>Slide 1</dc:title>
</cp:coreProperties>
</file>