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369567-C463-43FE-823D-C2345C5FDA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0D3AAF-8439-46E9-9B65-22BFE80C27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7D4BCD-0E5B-4231-A68B-083C4E8484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780F21-78F2-453A-8EBD-4C16C0C1ED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E6E0E2-B4BC-4D2E-9F83-C2F38A6FFE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EE339B-428E-42D4-8840-277D26999F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00CAB1-7C53-42FF-BA2F-B8CC7662D7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D042CB-3833-4E85-BC14-135FA1AF57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2141E0-ED28-4F92-A376-3AA7450D6F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0B3C6-B261-4A09-A938-3869718022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8BA14-3099-4F89-A11B-18A36EEF61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A5971-D92B-40C0-8DBF-33833E1B38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DDDF1-0D0A-416C-898C-1230B51F72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youtube.com/watch?v=8TpH79Q7dh4" TargetMode="Externa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
          <p:cNvSpPr txBox="1"/>
          <p:nvPr/>
        </p:nvSpPr>
        <p:spPr>
          <a:xfrm>
            <a:off x="1476360" y="1413000"/>
            <a:ext cx="5761080" cy="234792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cc"/>
                    </a:gs>
                    <a:gs pos="100000">
                      <a:srgbClr val="ff9999"/>
                    </a:gs>
                  </a:gsLst>
                  <a:lin ang="5400000"/>
                </a:gradFill>
                <a:latin typeface="Times New Roman"/>
              </a:rPr>
              <a:t>PDM ASSESSMENT</a:t>
            </a:r>
            <a:endParaRPr b="0" lang="en-US" sz="1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JECTIVE FRAME</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rtist intended to have a not to serious chase animation, as most a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LTURAL FRAME</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rtist has a theme of chases which relates to people who are interested in cars and racing. Many teenagers are interested in car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UCTURAL FRAME</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rtist uses the computer for his stop animation. Each picture was taken using a normal camera. Then uploaded to a computer &amp; to windows movie maker. The artist shortened the picture times and made titles and credits. He also added in some live footage. And finally, added some music that sounds like chase music ‘Live and let die’ by Guns and Ros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nimation challenges mainstream because it uses two different types of media in the same film, real footage and anim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RTIST</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rtist made an animation called the cha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rtwork is stop motion which was made on windows movie mak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UDIENCE</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 who have grown up in a world of technology that is always chang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WORLD</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igion is less important to people than it was befo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 are being treated a lot more equ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hange of technology over the past few yea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WORLD &amp; THE ARTIST</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rtist has been influenced by car chases and movies about ca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rtist isn’t a very religious person but is a Christi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RTIST &amp; THE AUDIENCE</a:t>
            </a:r>
            <a:endParaRPr b="0" lang="en-US" sz="40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rtist teaches people that you can achieve quality animation with simple programs and some ti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UDIENCE &amp; THE WORLD</a:t>
            </a: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world influences us through media such as posters, movies, music e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 change the world by influencing oth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WORLD &amp; THE ARTWORK</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ty Python’s ‘killer cars’ influenced the artist by combining stop animation with real figur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youtube.com/watch?v=8TpH79Q7dh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rtist is also influenced by Adam Elliot’s stop anim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RTIST &amp; THE ARTWORK</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rtist used racing as his theme because it has always interested him. And he wanted to see if he could recreate some of the action filled car chase sequences he has witnessed over the yea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9T06:13:11Z</dcterms:created>
  <dc:creator>Craig Rowland</dc:creator>
  <dc:description/>
  <dc:language>en-US</dc:language>
  <cp:lastModifiedBy>Craig Rowland</cp:lastModifiedBy>
  <dcterms:modified xsi:type="dcterms:W3CDTF">2009-09-30T08:40:18Z</dcterms:modified>
  <cp:revision>8</cp:revision>
  <dc:subject/>
  <dc:title>Slide 1</dc:title>
</cp:coreProperties>
</file>