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F6F6A-4B68-4B9F-B737-0EB9901BC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70A05-DEE6-425D-AC62-F5AEDE689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83AD9-95F9-4CB3-A7E6-FB6B567E4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44DC2-2A39-4699-91EC-09ACE950D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DEFF2-DB15-4DA0-83EB-8DC055BA9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A8EDC-38BE-48F7-8632-D778D0347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70417-3697-45BA-B1B9-4C43A0C22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BABAD-398C-478D-9497-DBCF404EA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AC168-D1E4-44F5-8977-74424A641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25866-3E6E-4853-A27F-1A27B0F62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2716E-6921-44F9-A3F6-A894B08B7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94AE4-EB88-4152-88ED-3C3507834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FDA89-41D0-434F-A872-AE0200AF99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youtube.com/watch?v=8TpH79Q7dh4"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txBox="1"/>
          <p:nvPr/>
        </p:nvSpPr>
        <p:spPr>
          <a:xfrm>
            <a:off x="1476360" y="1413000"/>
            <a:ext cx="5761080" cy="2347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PDM ASSESSMENT</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JECTIVE FRAM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intended to have a not to serious chase animation, as most 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AL FRAM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has a theme of chases which relates to people who are interested in cars and racing. Many teenagers are interested in ca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AL FRAM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rtist uses the computer for his stop animation. Each picture was taken using a normal camera. Then uploaded to a computer &amp; to windows movie maker. The artist shortened the picture times and made titles and credits. He also added in some live footage. And finally, added some music that sounds like chase music ‘Live and let die’ by Guns and Ro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imation challenges mainstream because it uses two different types of media in the same film, real footage and ani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TIST</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made an animation called the ch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work is stop motion which was made on windows movie mak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DIENC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who have grown up in a world of technology that is always chan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ORLD</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n is less important to people than it was bef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being treated a lot more eq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ange of technology over the past few yea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ORLD &amp; THE ARTIS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has been influenced by car chases and movies about c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isn’t a very religious person but is a Christi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RTIST &amp; THE AUDIENCE</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teaches people that you can achieve quality animation with simple programs and som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UDIENCE &amp; THE WORLD</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ld influences us through media such as posters, movies, music 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change the world by influencing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ORLD &amp; THE ARTWORK</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y Python’s ‘killer cars’ influenced the artist by combining stop animation with real fig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8TpH79Q7dh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is also influenced by Adam Elliot’s stop anim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RTIST &amp; THE ARTWORK</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used racing as his theme because it has always interested him. And he wanted to see if he could recreate some of the action filled car chase sequences he has witnessed over the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06:13:11Z</dcterms:created>
  <dc:creator>Craig Rowland</dc:creator>
  <dc:description/>
  <dc:language>en-US</dc:language>
  <cp:lastModifiedBy>Craig Rowland</cp:lastModifiedBy>
  <dcterms:modified xsi:type="dcterms:W3CDTF">2009-09-30T08:40:18Z</dcterms:modified>
  <cp:revision>8</cp:revision>
  <dc:subject/>
  <dc:title>Slide 1</dc:title>
</cp:coreProperties>
</file>