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DB1-3596-4343-93C1-779CB55D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101-B0F7-4B92-A338-1711EE18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C0B-CA43-442F-ABE8-33CAE123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F33-E3A7-44F4-8CC2-30758602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5EA-B324-47F0-A940-075D81C7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1E1-7D7B-44EA-B1DB-1C7A14D4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86A-6392-41CC-B6E8-0B364A98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5B6-5C83-400B-9BCC-69D8AD68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C22-63EC-4156-BC5C-BA99278D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4DC-50D9-4331-A822-CF507B9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DA5-8939-4359-9531-E558B7C5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701-3498-46C3-A03B-2FCC02CA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A5A7-D6F8-46A7-BECD-BB1D766B5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t Assessmen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2819520"/>
            <a:ext cx="5295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bd02d"/>
                    </a:gs>
                    <a:gs pos="100000">
                      <a:srgbClr val="e20808"/>
                    </a:gs>
                  </a:gsLst>
                  <a:lin ang="13500000"/>
                </a:gradFill>
                <a:latin typeface="Arial Black"/>
              </a:rPr>
              <a:t>By Nathan Sarmi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bd02d"/>
                  </a:gs>
                  <a:gs pos="100000">
                    <a:srgbClr val="e2080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4191120"/>
            <a:ext cx="3048120" cy="235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4267080"/>
            <a:ext cx="297180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ice of the character was made to be really boring, as if nothing special happened to him before. This shows how the character talks about his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90920" y="3657600"/>
            <a:ext cx="3733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m has a theme of AFL players. AFL is an enjoyable sport to a wide range of people. E.g. AFL players,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363760" cy="344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6384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uses a camera for the pictures whiteboard and modeling clay for the story and character and a computer for ed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took a picture and moved the figure a bit and then took another picture and kept 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artist’s friends helped him with the real foo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Modern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work challenges the mainstream by using two different types of media in the same film, animation and real foo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d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dience’s view on art is changing rapidly due to the mass effect of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4191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0808"/>
                </a:solidFill>
                <a:latin typeface="Arial"/>
              </a:rPr>
              <a:t>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000"/>
                </a:solidFill>
                <a:latin typeface="Arial"/>
              </a:rPr>
              <a:t>The world is changing due to technology and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000"/>
                </a:solidFill>
                <a:latin typeface="Arial"/>
              </a:rPr>
              <a:t>Sexes and races are treated like eve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was influenced by animations where the characters were round and cur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kes to listen to music and watch anime. Such as One Piece, Bleach and Nar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98252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4343400"/>
            <a:ext cx="2438280" cy="2257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st and the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s teaches people that it doesn't matter on the age you are, it matters on how good the anima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animation is achieved with imagination and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influences other artists to make their own animation for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dience a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shapes us constantly through media and technology, such as posters, music, interne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hange the world by influencing other people. e.g. if the first hand drawing animation wasn’t invented there would be no digital animation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elodeon’s Jimmy Timmy Power Hour inspired Nathan to create 2d drawings and make it into a 3d ob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1904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am Elliot’s films such as Harvie Krumpet, he makes his figures talk. The artist uses this idea in his own animation. The Runaway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st and 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chose a runaway ball and his shifting character because it was an idea that he hasn’t seen used of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324792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327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1:20:49Z</dcterms:created>
  <dc:creator>Nathan</dc:creator>
  <dc:description/>
  <dc:language>en-US</dc:language>
  <cp:lastModifiedBy>Nathan</cp:lastModifiedBy>
  <dcterms:modified xsi:type="dcterms:W3CDTF">2009-10-29T00:10:38Z</dcterms:modified>
  <cp:revision>9</cp:revision>
  <dc:subject/>
  <dc:title>Slide 1</dc:title>
</cp:coreProperties>
</file>