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5C6F-87DB-4BA4-827C-6D93E13C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B2E-A4C6-4796-B536-91175C1A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B36-8ED9-493D-9BFA-7D02E8D3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F3B-20BE-4806-B517-DC422E8A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CC2-B66B-4C9F-A49D-65C19DF6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2DC-9B08-4720-A6FE-FE98BA03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E6A-B7EF-4316-AC66-FF0BF88A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C25-2A66-418F-9D79-A38059E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B3C-1AC5-4024-AFF9-CDCC2778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98C-D645-44B7-97EC-BD80419D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32D-2083-42EF-B42E-1A21015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775-CA32-4AD5-A78D-BEDD2144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BA59-A732-4CCC-B938-5F8974D7B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t Assessment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2819520"/>
            <a:ext cx="52959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bd02d"/>
                    </a:gs>
                    <a:gs pos="100000">
                      <a:srgbClr val="e20808"/>
                    </a:gs>
                  </a:gsLst>
                  <a:lin ang="13500000"/>
                </a:gradFill>
                <a:latin typeface="Arial Black"/>
              </a:rPr>
              <a:t>By Nathan Sar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bd02d"/>
                  </a:gs>
                  <a:gs pos="100000">
                    <a:srgbClr val="e20808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4191120"/>
            <a:ext cx="304812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4267080"/>
            <a:ext cx="297180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ice of the character was made to be really boring, as if nothing special happened to him before. This shows how the character talks about his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37335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m has a theme of AFL players. AFL is an enjoyable sport to a wide range of people. E.g. AFL players,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363760" cy="3441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6384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s a camera for the pictures whiteboard and modeling clay for the story and character and a computer for ed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took a picture and moved the figure a bit and then took another picture and kept go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artist’s friends helped him with the real foo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work challenges the mainstream by using two different types of media in the same film, animation and real foo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dience’s view on art is changing rapidly due to the mass effect of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52680" y="2895480"/>
            <a:ext cx="4191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0808"/>
                </a:solidFill>
                <a:latin typeface="Arial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The world is changing due to technology and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40000"/>
                </a:solidFill>
                <a:latin typeface="Arial"/>
              </a:rPr>
              <a:t>Sexes and races are treated like eve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was influenced by animations where the characters were round and cur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ikes to listen to music and watch anime. Such as One Piece, Bleach and Nar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98252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4343400"/>
            <a:ext cx="2438280" cy="2257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s teaches people that it doesn't matter on the age you are, it matters on how good the anima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animation is achieved with imagination and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influences other artists to make their own animation for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dience a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 shapes us constantly through media and technology, such as posters, music, interne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hange the world by influencing other people. e.g. if the first hand drawing animation wasn’t invented there would be no digital animation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elodeon’s Jimmy Timmy Power Hour inspired Nathan to create 2d drawings and make it into a 3d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1904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ld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am Elliot’s films such as Harvie Krumpet, he makes his figures talk. The artist uses this idea in his own animation. The Runaway 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ist and 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chose a runaway ball and his shifting character because it was an idea that he hasn’t seen used of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324792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27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01:20:49Z</dcterms:created>
  <dc:creator>Nathan</dc:creator>
  <dc:description/>
  <dc:language>en-US</dc:language>
  <cp:lastModifiedBy>Nathan</cp:lastModifiedBy>
  <dcterms:modified xsi:type="dcterms:W3CDTF">2009-10-29T00:10:38Z</dcterms:modified>
  <cp:revision>9</cp:revision>
  <dc:subject/>
  <dc:title>Slide 1</dc:title>
</cp:coreProperties>
</file>