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7B8-DC2F-4513-9545-69FF4EFF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582-01FB-410A-BDB1-8CB903AC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639-EE7D-4B97-BC78-F44FCC71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1F6-13F9-4605-B8FA-A845F5B7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821-9A25-4EC1-A018-333BD4D4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146-D914-44E8-AF8A-FC8988C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95B-990A-4521-AF09-410CE35C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27E-5BAF-4D0B-BFDD-A7A17878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56D-5979-43F5-B85D-74909CBE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FE2-EDB4-45EC-8C49-06DC087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A34-5248-4878-9A17-0E153AF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D1A-706A-4777-B9E3-32ACDBE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7F2A-46A8-412A-BE1C-E0C1B89D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t Assess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819520"/>
            <a:ext cx="5295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bd02d"/>
                    </a:gs>
                    <a:gs pos="100000">
                      <a:srgbClr val="e20808"/>
                    </a:gs>
                  </a:gsLst>
                  <a:lin ang="13500000"/>
                </a:gradFill>
                <a:latin typeface="Arial Black"/>
              </a:rPr>
              <a:t>By Nathan Sar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bd02d"/>
                  </a:gs>
                  <a:gs pos="100000">
                    <a:srgbClr val="e2080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04812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29718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ice of the character was made to be really boring, as if nothing special happened to him before. This shows how the character talks about hi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733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m has a theme of AFL players. AFL is an enjoyable sport to a wide range of people. E.g. AFL players,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363760" cy="344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638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s a camera for the pictures whiteboard and modeling clay for the story and character and a computer for ed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took a picture and moved the figure a bit and then took another picture and kept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artist’s friends helped him with the real foo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work challenges the mainstream by using two different types of media in the same film, animation and real foo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dience’s view on art is changing rapidly due to the mass effect of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4191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808"/>
                </a:solidFill>
                <a:latin typeface="Arial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The world is changing due to technology and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Sexes and races are treated like ev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was influenced by animations where the characters were round and cur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kes to listen to music and watch anime. Such as One Piece, Bleach and Nar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98252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s teaches people that it doesn't matter on the age you are, it matters on how good the anima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animation is achieved with imagination and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influences other artists to make their own animation for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a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shapes us constantly through media and technology, such as posters, music, interne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ange the world by influencing other people. e.g. if the first hand drawing animation wasn’t invented there would be no digital animation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elodeon’s Jimmy Timmy Power Hour inspired Nathan to create 2d drawings and make it into a 3d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1904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am Elliot’s films such as Harvie Krumpet, he makes his figures talk. The artist uses this idea in his own animation. The Runaway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chose a runaway ball and his shifting character because it was an idea that he hasn’t seen used of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24792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27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1:20:49Z</dcterms:created>
  <dc:creator>Nathan</dc:creator>
  <dc:description/>
  <dc:language>en-US</dc:language>
  <cp:lastModifiedBy>Nathan</cp:lastModifiedBy>
  <dcterms:modified xsi:type="dcterms:W3CDTF">2009-10-29T00:10:38Z</dcterms:modified>
  <cp:revision>9</cp:revision>
  <dc:subject/>
  <dc:title>Slide 1</dc:title>
</cp:coreProperties>
</file>