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6608-E43B-4ABD-B446-8A56AC2C1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0ACC-F2C4-4765-9E9B-047279737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220E-8030-4B68-B633-5DE7DC37F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D8DB-C40C-4776-A828-692556D2B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0EDB-20F7-45D9-8FE4-3845346CA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8A9E-A74B-44E2-978E-80D893094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CCC6-401B-4365-BB4F-6F1168C4B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E206-1CEB-4373-9268-C83D16CA3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7752-3AD7-4EB2-B117-59C1C458A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6452-2272-4F01-9B08-BB8C2D60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007F-1FC0-4245-B4D5-1368170E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2065-2AE1-445F-B53D-B5FED2C5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E6128-B1CC-469E-800C-27ED524194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nim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898989"/>
                </a:solidFill>
                <a:latin typeface="Calibri"/>
              </a:rPr>
              <a:t>By Jonathan Martine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nim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y animation is about a group of boys that played a soccer for a local soccer cub. My animation is a white board animation that reflects on my childhoo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What I used in my anim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Used white boar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ame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ompu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 mov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rt work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Artist used a white board and camera to capture my animation and I also used a pc to edited and configure my animation. My animation was about a football team win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rtist inten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 chose white board because I was interested and looked quite easy to understand and put togeth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 u="sng">
                <a:solidFill>
                  <a:srgbClr val="000000"/>
                </a:solidFill>
                <a:uFillTx/>
                <a:latin typeface="Calibri"/>
              </a:rPr>
              <a:t>Influ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n my animation my influence where terry Gleam because of the way he set out his anim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The artist and the worl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Used camer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occer ga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nfluenced by Terry Gle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nfluenced by people playing socc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5T09:54:30Z</dcterms:created>
  <dc:creator>Jonathan</dc:creator>
  <dc:description/>
  <dc:language>en-US</dc:language>
  <cp:lastModifiedBy>Jonathan</cp:lastModifiedBy>
  <dcterms:modified xsi:type="dcterms:W3CDTF">2009-09-25T23:49:57Z</dcterms:modified>
  <cp:revision>8</cp:revision>
  <dc:subject/>
  <dc:title>Animation</dc:title>
</cp:coreProperties>
</file>