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C95-5D17-4581-9A9D-32B75F09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17C2-0057-49DE-852B-E4BF6BFD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A5A-2E58-411C-98E4-2E25C11D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B09-1B8C-466C-BC4A-CE1353F4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67D-8002-4BDA-89B8-9C29761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712-90AA-42D6-8335-7E20C737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6DD-137A-40FC-960C-23DD7F62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1F34-8005-4EDF-849A-9D7E3148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1CF-8351-4B39-B7B7-20A518EB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E78-4E14-48B9-99EF-58DC7A93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519-AA11-48D3-934C-DA0D91C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BF9-E665-4A6A-A22C-BDA2CFC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C6FF-0F40-4F8E-BD12-021F696817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By Jonathan Martin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y animation is about a group of boys that played a soccer for a local soccer cub. My animation is a white board animation that reflects on my childh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 used in my anim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white bo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m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mo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 wor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Artist used a white board and camera to capture my animation and I also used a pc to edited and configure my animation. My animation was about a football team win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rtist inten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 chose white board because I was interested and looked quite easy to understand and put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Infl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my animation my influence where terry Gleam because of the way he set out his ani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artist and the worl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ed cam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ccer ga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Terry Gl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fluenced by people playing socc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09:54:30Z</dcterms:created>
  <dc:creator>Jonathan</dc:creator>
  <dc:description/>
  <dc:language>en-US</dc:language>
  <cp:lastModifiedBy>Jonathan</cp:lastModifiedBy>
  <dcterms:modified xsi:type="dcterms:W3CDTF">2009-09-25T23:49:57Z</dcterms:modified>
  <cp:revision>8</cp:revision>
  <dc:subject/>
  <dc:title>Animation</dc:title>
</cp:coreProperties>
</file>