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309-1FB4-4823-AE16-C62F12E2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A95-7B5F-4068-A967-13DD50CF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AF39-5BD8-45E1-893A-FF187261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945-E7E5-463E-BD08-6150765A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5C4-E58D-40EF-A9DD-61452835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215-32FC-4E9E-A2D6-37A945B0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2EE-E980-4651-950D-15CB389B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EFD4-B9E9-4B0E-A593-385B8B3E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6EF-03F9-4C7F-BC99-F116BAC7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D11D-4A49-42FB-AFA8-68E8974C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5EE8-AAFB-4D16-A4D9-42E1128A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A66-CD14-46E5-A652-A2B2492B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100A-5078-4BC2-B529-B04CE358B7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i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By Jonathan Martin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i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y animation is about a group of boys that played a soccer for a local soccer cub. My animation is a white board animation that reflects on my childh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 used in my ani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d white boar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m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 mo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rt wor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Artist used a white board and camera to capture my animation and I also used a pc to edited and configure my animation. My animation was about a football team win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rtist inten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 chose white board because I was interested and looked quite easy to understand and put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Calibri"/>
              </a:rPr>
              <a:t>Infl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my animation my influence where terry Gleam because of the way he set out his ani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artist and the worl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d camer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ccer g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fluenced by Terry Gl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fluenced by people playing socc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09:54:30Z</dcterms:created>
  <dc:creator>Jonathan</dc:creator>
  <dc:description/>
  <dc:language>en-US</dc:language>
  <cp:lastModifiedBy>Jonathan</cp:lastModifiedBy>
  <dcterms:modified xsi:type="dcterms:W3CDTF">2009-09-25T23:49:57Z</dcterms:modified>
  <cp:revision>8</cp:revision>
  <dc:subject/>
  <dc:title>Animation</dc:title>
</cp:coreProperties>
</file>