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741-0585-475F-9CAC-23521BE6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E121-BF02-41C5-B0D5-C156F4B6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B32-D2E0-4D00-8348-A4CF647D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D3C-EEB0-45E0-862E-975E76DF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F2F-D7F7-4A70-ABB8-7938D051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815-1D80-4017-B784-7068C0E7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0C4-7B55-4F06-807E-67357FD8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E6C-BDFE-4259-B784-A18F6B61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54A-BDB8-4F8B-A803-BC47D5E8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5BA-1227-4025-A136-8D9C6BBF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CC9-3AFF-40DF-AEF9-06018FD1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9AD-54CA-4EE0-9553-E516C3FE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74B8-73B6-48B7-9395-4CEEF37D02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i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By Jonathan Martin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i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y animation is about a group of boys that played a soccer for a local soccer cub. My animation is a white board animation that reflects on my childh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 used in my ani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d white boar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m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 mo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rt wor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Artist used a white board and camera to capture my animation and I also used a pc to edited and configure my animation. My animation was about a football team win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rtist inten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 chose white board because I was interested and looked quite easy to understand and put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Infl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my animation my influence where terry Gleam because of the way he set out his ani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artist and the worl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d camer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ccer g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fluenced by Terry Gl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fluenced by people playing socc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09:54:30Z</dcterms:created>
  <dc:creator>Jonathan</dc:creator>
  <dc:description/>
  <dc:language>en-US</dc:language>
  <cp:lastModifiedBy>Jonathan</cp:lastModifiedBy>
  <dcterms:modified xsi:type="dcterms:W3CDTF">2009-09-25T23:49:57Z</dcterms:modified>
  <cp:revision>8</cp:revision>
  <dc:subject/>
  <dc:title>Animation</dc:title>
</cp:coreProperties>
</file>